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248-38CC-4CA1-8299-79E25C31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767-3758-48DE-B39C-243FB3AD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172-1EA1-4200-976C-F1D4B824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DB6-1623-49B1-951B-6DBBD402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DDF-292D-41C6-8094-16CB0DA2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CEF-9F29-40B8-BFBD-8D6100E8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2B0-0363-4328-835D-4BA48F5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FF0-396E-421D-BE34-204B2C2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AD3-9F0D-402D-B67B-533E7E17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9BC-D0C7-4FDA-A986-311072E4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273-EC66-4F7E-A106-BFC96935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A15-CB50-4606-B5F7-3DFA6AEF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57DC-254D-4918-A97B-4AA95D068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0 Ja viem, že Spasi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ž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že Spasiteľ môj ži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bývať budem večne ra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príde smr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rob ma skry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uzriem slávu rajsk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ou verných od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Ježišovi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mňa krvou zaplati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neho pomoc očak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á mi k víťazstvu dosť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ou verných od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Pán Ježiš príde za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znamenia to hlás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tých sa zjaví v plnej krá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ňho verne čak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ou verných odmen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9:45:20Z</dcterms:modified>
  <cp:revision>20</cp:revision>
  <dc:subject/>
  <dc:title>Je veľký náš Pán, on slávy je Kráľ Nech do všetkých strán  spev vrúcnych znie chvál.</dc:title>
</cp:coreProperties>
</file>